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png" ContentType="image/png"/>
  <Override PartName="/ppt/media/image1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BBDD-CB88-475C-9A32-B2D90498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46E0-FDF4-491F-A339-F8CDA433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4F71-62B4-4F4D-9A78-FBF6267F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ACC0-70B0-472D-AE4A-6B1E5B24A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23C0-95AA-4577-AC6C-30AD89D6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9B15-6CC6-442E-9D13-6C351927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60B9-1C2C-4C54-AB4F-E3ADFD75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921D-E1F0-4A4B-A358-2718F92F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A36C-F9AF-423E-8C95-38EF547F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0AF9-4053-44AC-B4BD-D16B6743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76E1-153C-48F4-AC17-A8C3A3F7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0290-A9E4-4F33-86D0-175BF9FB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94FB-263E-4125-8C4F-8B2D3BE02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1" descr=""/>
          <p:cNvPicPr/>
          <p:nvPr/>
        </p:nvPicPr>
        <p:blipFill>
          <a:blip r:embed="rId2"/>
          <a:stretch/>
        </p:blipFill>
        <p:spPr>
          <a:xfrm>
            <a:off x="1322280" y="792000"/>
            <a:ext cx="6389640" cy="1974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sramsey\Local Settings\Temporary Internet Files\Content.IE5\726PDIT4\MC900441846[1].wmf"/>
          <p:cNvPicPr/>
          <p:nvPr/>
        </p:nvPicPr>
        <p:blipFill>
          <a:blip r:embed="rId3"/>
          <a:stretch/>
        </p:blipFill>
        <p:spPr>
          <a:xfrm>
            <a:off x="3429000" y="3200400"/>
            <a:ext cx="24177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a place in the desert made fertile by a steady supply of wat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a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eries of connected mountai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untain r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360" y="7621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different between  a strait and a isthm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http://www.worldatlas.com/aatlas/infopage/hormuz.gif"/>
          <p:cNvPicPr/>
          <p:nvPr/>
        </p:nvPicPr>
        <p:blipFill>
          <a:blip r:embed="rId1"/>
          <a:stretch/>
        </p:blipFill>
        <p:spPr>
          <a:xfrm>
            <a:off x="304920" y="3427560"/>
            <a:ext cx="3200400" cy="3193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www.nasa.gov/images/content/150519main_image_feature_595_ys_4.jpg"/>
          <p:cNvPicPr/>
          <p:nvPr/>
        </p:nvPicPr>
        <p:blipFill>
          <a:blip r:embed="rId2"/>
          <a:stretch/>
        </p:blipFill>
        <p:spPr>
          <a:xfrm>
            <a:off x="4952880" y="3429000"/>
            <a:ext cx="3962520" cy="2971800"/>
          </a:xfrm>
          <a:prstGeom prst="rect">
            <a:avLst/>
          </a:prstGeom>
          <a:ln w="0">
            <a:noFill/>
          </a:ln>
        </p:spPr>
      </p:pic>
      <p:cxnSp>
        <p:nvCxnSpPr>
          <p:cNvPr id="70" name="Straight Arrow Connector 7"/>
          <p:cNvCxnSpPr/>
          <p:nvPr/>
        </p:nvCxnSpPr>
        <p:spPr>
          <a:xfrm flipH="1">
            <a:off x="2208960" y="4190040"/>
            <a:ext cx="1677240" cy="533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1" name="Straight Arrow Connector 8"/>
          <p:cNvCxnSpPr/>
          <p:nvPr/>
        </p:nvCxnSpPr>
        <p:spPr>
          <a:xfrm>
            <a:off x="4038120" y="4191120"/>
            <a:ext cx="205776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2" name="Right Arrow 11"/>
          <p:cNvSpPr/>
          <p:nvPr/>
        </p:nvSpPr>
        <p:spPr>
          <a:xfrm>
            <a:off x="4419720" y="5105520"/>
            <a:ext cx="1066680" cy="15228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2362320" y="1752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th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difference between a plateau and a mes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838080" y="259092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teau is bigger than a m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rapezoid 5"/>
          <p:cNvSpPr/>
          <p:nvPr/>
        </p:nvSpPr>
        <p:spPr>
          <a:xfrm>
            <a:off x="380880" y="4267080"/>
            <a:ext cx="3276720" cy="1981440"/>
          </a:xfrm>
          <a:prstGeom prst="pie">
            <a:avLst/>
          </a:prstGeom>
          <a:solidFill>
            <a:srgbClr val="6633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rapezoid 6"/>
          <p:cNvSpPr/>
          <p:nvPr/>
        </p:nvSpPr>
        <p:spPr>
          <a:xfrm>
            <a:off x="5257800" y="4724280"/>
            <a:ext cx="1905120" cy="1295640"/>
          </a:xfrm>
          <a:prstGeom prst="pie">
            <a:avLst/>
          </a:prstGeom>
          <a:solidFill>
            <a:srgbClr val="0d0d0d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wn Arrow 14"/>
          <p:cNvSpPr/>
          <p:nvPr/>
        </p:nvSpPr>
        <p:spPr>
          <a:xfrm rot="3179400">
            <a:off x="3625200" y="3218040"/>
            <a:ext cx="890640" cy="208116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Down Arrow 15"/>
          <p:cNvSpPr/>
          <p:nvPr/>
        </p:nvSpPr>
        <p:spPr>
          <a:xfrm rot="839400">
            <a:off x="6178680" y="2841480"/>
            <a:ext cx="701640" cy="1828800"/>
          </a:xfrm>
          <a:prstGeom prst="downArrow">
            <a:avLst>
              <a:gd name="adj1" fmla="val 50000"/>
              <a:gd name="adj2" fmla="val 4994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difference between a river and tribut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838080" y="259092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iver is b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large area of flat or nearly flat lan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http://nisley.mesa.k12.co.us/students/images/HighPlainsSpringB_0446.jpg"/>
          <p:cNvPicPr/>
          <p:nvPr/>
        </p:nvPicPr>
        <p:blipFill>
          <a:blip r:embed="rId1"/>
          <a:stretch/>
        </p:blipFill>
        <p:spPr>
          <a:xfrm>
            <a:off x="1143000" y="2590920"/>
            <a:ext cx="450540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oint of land that extends into a river, lake, or ocea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http://www.wayfaring.info/wp-content/uploads/2008/07/clifton-beach-cape-town.jpg"/>
          <p:cNvPicPr/>
          <p:nvPr/>
        </p:nvPicPr>
        <p:blipFill>
          <a:blip r:embed="rId1"/>
          <a:stretch/>
        </p:blipFill>
        <p:spPr>
          <a:xfrm>
            <a:off x="762120" y="2286000"/>
            <a:ext cx="548640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the place where a river begi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http://www.crescent.edu.sg/ipw/1999/29g9-river/featur2.gif"/>
          <p:cNvPicPr/>
          <p:nvPr/>
        </p:nvPicPr>
        <p:blipFill>
          <a:blip r:embed="rId1"/>
          <a:stretch/>
        </p:blipFill>
        <p:spPr>
          <a:xfrm>
            <a:off x="457200" y="2133720"/>
            <a:ext cx="56484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 mountain created as liquid rock and ash erupt from the inside the eart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c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high, flat landform that rises steeply above the surrounding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flat, low-lying land built up from soil carried downstream by a river and deposited at its mout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 huge sheet of ice that moves slowly across the lan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aci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very dry area where few plants grow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e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2:50:16Z</dcterms:created>
  <dc:creator>Barbers Hill ISD</dc:creator>
  <dc:description/>
  <dc:language>en-US</dc:language>
  <cp:lastModifiedBy>BHISD</cp:lastModifiedBy>
  <dcterms:modified xsi:type="dcterms:W3CDTF">2011-09-28T20:28:27Z</dcterms:modified>
  <cp:revision>39</cp:revision>
  <dc:subject/>
  <dc:title>PowerPoint Presentation</dc:title>
</cp:coreProperties>
</file>